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4C67-0842-445D-A381-71C7947B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C6D-D4DB-41AB-BE4A-4F77D6D0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F07-85D5-4E26-8C4B-E51D8D19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206-919D-40DD-8C4A-5AC892F7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991A-40F4-494D-BBE6-22CF7CB1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2A3-C152-4B81-831F-74458447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0FE-6EDE-45EB-B449-0BE4E58D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B90-1C20-4F69-A812-920DA149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8BF6-EAF0-4E23-88B8-2E360DC5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FC3-B275-4E8E-8083-908270E2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095-D61B-4EA9-9D79-063621EB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492-124E-4A35-838B-EAD7FB2A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C318-F9B1-4A55-80D1-C6D3273F0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M 4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. Robert A. Perk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3 Duck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74 76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frap@uaf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faculty.uaf.edu/ffra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BET1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BET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627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BET3" descr=""/>
          <p:cNvPicPr/>
          <p:nvPr/>
        </p:nvPicPr>
        <p:blipFill>
          <a:blip r:embed="rId1"/>
          <a:stretch/>
        </p:blipFill>
        <p:spPr>
          <a:xfrm>
            <a:off x="503280" y="2017800"/>
            <a:ext cx="813744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BET4" descr=""/>
          <p:cNvPicPr/>
          <p:nvPr/>
        </p:nvPicPr>
        <p:blipFill>
          <a:blip r:embed="rId1"/>
          <a:stretch/>
        </p:blipFill>
        <p:spPr>
          <a:xfrm>
            <a:off x="307800" y="1589040"/>
            <a:ext cx="85266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CE statement of Body of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s to ABET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762120"/>
            <a:ext cx="80773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. an ability to apply knowledge in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alized area related to ci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. an understanding of the elements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ject management, construction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et manag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. an understanding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siness and public policy and 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dament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0:08:46Z</dcterms:created>
  <dc:creator>Robert A. Perkins</dc:creator>
  <dc:description/>
  <dc:language>en-US</dc:language>
  <cp:lastModifiedBy>Robert A. Perkins</cp:lastModifiedBy>
  <dcterms:modified xsi:type="dcterms:W3CDTF">2007-01-19T21:37:05Z</dcterms:modified>
  <cp:revision>5</cp:revision>
  <dc:subject/>
  <dc:title>ESM 450</dc:title>
</cp:coreProperties>
</file>